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48D-BAF6-4112-8BDC-90917DDE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DA2-C134-4D2F-AD49-C2418BD2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4B9-479C-4BCF-9861-BF400653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A35-75A0-4D70-B0BA-E0E9F288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F874-507F-4F7F-9E0A-21FCC4A0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3D33-841B-42E7-8D81-EA96E5E0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A5C-071C-4601-B166-F679FED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B3A-8E9C-4D5D-9546-44008872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724-DAF1-43FF-BE68-72D2AF7E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572-F69D-4FB4-9716-3F7E520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55D7-63EF-4BD9-832E-B9B6614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7FB-CAF9-4508-954D-66DED1C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0C2-3B7E-4EE8-9E9D-DAD31B5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C6F-DB04-411A-973C-F058397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E3E2-4142-4AA0-9573-F54BD08F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DDBA-3C36-47BD-B021-8E7429D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A504-9FFC-4FB7-BCD1-55458331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9ACC-BACD-4088-BA02-18596323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EFDF-F9EE-484F-B8C0-3CB80C55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AD85-6178-4E8F-A4D6-D2A2EF7C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0AB6-5E05-4A26-84C3-10608E9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C8DF-EF86-4654-9D48-2E12EFEB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EF3-E93A-478C-BE4E-47C3C10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F253-E5DD-45CE-B1CD-AA3B66C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13F9-E87B-48CE-B30A-CC05B56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1F71-20BE-4304-828F-EF5727C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FF47-913A-4D24-BD76-9464A07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01EB-B40C-4DDD-BD3C-506E05C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625E-4870-4087-A189-2325F221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3614-446C-4B15-A609-7C7678C5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BBAD9-C00E-4F9D-907B-337F686ABF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97ABF-5E83-4652-8433-37831287BB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A29B1-E633-42C6-85AA-D3F694834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54A-8178-4800-9647-B582DD92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4E01A-5227-4D09-BF38-2AD53EFA57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1E8A0-DA25-4985-AE73-A7682D27DE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A1843-4586-4004-BBC9-1A5184D2F2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E0DFA-5459-42AD-AE1C-74FA966658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CF737-697A-46F8-AF3F-802AC9DDB4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511FA-55B1-47B9-97B0-0EA95AFC46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F1693-4A41-4746-9B37-B9F8C7F2D4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E9501-5A4C-4596-A7A2-EBAF80243C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762C9-7E9D-45FD-B280-A8E878607C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89E0-A512-4DC3-8400-3328DDBB4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2FB-E293-4CE4-8CEE-6A98A7D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F7E8-2F21-4E32-9462-BECB5E0E9B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AF74-90D3-49FC-B3F3-28BB9AD0F5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1B6E-4FCD-4736-B3E8-066DDC897D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BB49-68C5-42E7-A20F-E3B6F1F49F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D8EF-DDB1-41B9-875F-86C36AB390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34DB-8CD6-4F88-8CB2-2714DFDA32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B3F6-2F58-47F0-B20D-9CDD3DFCAD5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AFEA-3D35-48E3-A395-6B830F1091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9880-79C8-4017-9F3B-4EEB275E40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93E7-097E-458F-8152-5E95B6B0E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A5B-25CD-412E-95C0-B81BDC7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567A9-8B3E-4627-A4AA-7C37842A44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6383-B10F-4F04-B217-0300B7FAE1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F1A3-4C1E-4F72-92B2-2FDFA4ABF2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2896-05BD-4792-8294-E59BB72603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F12D-3241-4236-A22A-2DDF760D29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A2CE-BB2D-4F42-B75E-7F379E7E69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0C38-E03D-41FF-B3C4-7B76B2D399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960A-9662-48B4-B89C-6F584D71BC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3A45-0C08-4451-B843-97A0CB1BAA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7F8B-F713-4F66-A88E-16D8DC84F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383-8F86-43EB-A60C-48EDC92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6020-F331-4069-8405-FFBEFB4A68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9A12-AA19-447D-809C-918660C3FF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D7D7-3B58-46AB-9DEF-E4198002D3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72C70-48CB-4CF0-9344-8DCF4249F6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32801-FF65-49A4-806F-8E671E6F02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42D83-071C-4120-B51D-82B713C9D6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F2AAD-3A15-4D14-8C41-4032D5A912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40B7A-1DA3-4570-85D3-FD5B810F76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52C69-CD4E-4915-90D2-C461A81ADB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DBE67-8D6E-44BD-B724-42BB061AD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11F-5CE8-4F62-A564-7E58736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1B857-1B8B-4279-AF7A-B4E0F193CF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4549D-1DF4-49BC-AC3F-94CDC81984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CE295-DD7A-4343-812A-923390A81D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137EF-6165-426D-BAFA-829D8921E3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8909C-590F-4DDE-BAE1-B7A61D793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819-AD44-4414-A5C6-B17BCD3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5CC5-2BFA-4BB7-95EC-3E967151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CAB-F7CD-445D-B7E5-8D47C4BF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E50-9404-4D8A-9E51-B4F4686C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8C40508-49B6-4FB7-B16B-99003A179E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B9F3B84-B975-4995-8383-40D33272759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712AA23-C06C-4A1D-85A5-E5A160B8ABE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F1D1650-4299-4D2E-BC9F-541E1D477E7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5936F1-4144-4260-9BA0-96EC21CD78A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repreneurship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Your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http://business.phillipmartin.info/la_advertising.gif"/>
          <p:cNvPicPr/>
          <p:nvPr/>
        </p:nvPicPr>
        <p:blipFill>
          <a:blip r:embed="rId1"/>
          <a:stretch/>
        </p:blipFill>
        <p:spPr>
          <a:xfrm>
            <a:off x="2971800" y="2971800"/>
            <a:ext cx="6172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6C1-1D66-41A9-BDDA-C7903BE54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-Ter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the next two to fiv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determined largely by 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make sure your marketing strategy will help you achieve medium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80880" y="3962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380880" y="464832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a 5, 10, or even 2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 can help define current marketing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E26-CF54-4D51-9813-EC455A0D9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goal setting important when developing a marketing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goals ensures that the marketing you do today fits in with the total vision you have for your business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2AD-7687-45A1-933B-0B07F420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Market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goals &amp; marketing strategy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customers and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ine a strategy for attracting &amp; keeping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&amp; anticipated chan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8E13-0A54-45C9-A299-E2AFBF41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Market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ten Marketing Pl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determine whether it is solid and consisten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elp obtain financ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om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uiding docu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perate your business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lways make adjustments to market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ing Plan becomes part of Business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5CF-A8B8-4881-A745-25E0E5B18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or will expect answers to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duct will I off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my prospective customer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constant demand for this produc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mpetitors are providing the same produc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create a demand for the product I want to off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compete effectively in price, quality and delivery for my produ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D303-2AD8-442A-9545-6D68A656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nswer Thos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a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rketing plan must include information on the following top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r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A470-C642-4FD5-8268-73A1B646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plans should include performance standards that measure effectiv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results should be compared to performance standards quart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I meeting sales forec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y promotional campaign reaching the target mar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y company doing everything it can to meet customers’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easy for my customers to locate my product and is it competitively pr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BD5-28E7-4E59-A4AB-050B20C1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put your marketing plan in wri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you determine whether it i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s are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document to operat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part of your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elp obtain 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2735-86F3-405A-B38A-9D5D87263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e Marketing Mix - Produc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marketing concept affects decisions regard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 m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escribe the importance of produ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atures, branding, and pos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C:\Users\jsundlin\AppData\Local\Microsoft\Windows\Temporary Internet Files\Content.IE5\DFY2B3U9\MP900400547[1].jpg"/>
          <p:cNvPicPr/>
          <p:nvPr/>
        </p:nvPicPr>
        <p:blipFill>
          <a:blip r:embed="rId1"/>
          <a:stretch/>
        </p:blipFill>
        <p:spPr>
          <a:xfrm>
            <a:off x="6553080" y="1219320"/>
            <a:ext cx="187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C0F-5652-42B5-97D6-1D2AEE020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ing Concept &amp;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rketing Conce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lief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nts and n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ustomers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important 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developing any product or marketing ef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market is consumer-dr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more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ncreased (Glob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0B22-B37A-4F9A-A735-8D9E22AB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velop Marketing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marketing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how to develop a marketing strategy for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information is included in a marketing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9AE-4D82-4A40-9DC1-9F9375E90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M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products and services a business se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may carry some products tha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profi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provide a convenience for customer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oduct selection makes up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ity of sales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E0C-A671-481C-85ED-D11734C26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rketing concept affect decisions made about the product mi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lying the marketing concept, you will select a mix of products that you feel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appeal to your target cust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856A-B8E8-4228-B55A-72B9E7900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buy a product because it meets their buying nee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is more to a product than many  consumers may realize. Companies spend a lot of time develop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cka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5228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Feature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ding &amp; Pos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B07-A580-4B81-AA84-911FF125D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Product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characteristics that will satisfy customer needs includ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an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rget market should be considered when selecting product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8C4A-6AA1-489F-A1C4-0DA24CAE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ing, Packaging &amp; Lab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an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, symbol, or design used to identify your produ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box, container, or wrapper in which the product is plac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information about the product is given on the pack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d, package &amp; label you choose for a product helps differentiate it from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your product stand out from the 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7B1C-9E2A-480F-850B-02A56AAB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Your Products or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roducts/services within the same category serve different customer nee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Honda &amp; B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utomobiles (transpor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very different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o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 image for the product in the customer’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6FE-AD52-47D8-92C1-C2B9A0AE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Your Products or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position a product with the customers in mi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 can 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W – Desire high quality and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da – Inexpensive family saf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C53-BAA4-4142-90D1-6FDA4391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roduct features, branding and positio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feature, branding and pos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product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it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8335-F2A5-4239-8ED1-BB4453F43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Marketing Mix -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icing objectives for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price for products using variou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factors to consider when pric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nd describe various pricing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jsundlin\AppData\Local\Microsoft\Windows\Temporary Internet Files\Content.IE5\EC3SSIDL\MM900223799[1].gif"/>
          <p:cNvPicPr/>
          <p:nvPr/>
        </p:nvPicPr>
        <p:blipFill>
          <a:blip r:embed="rId1"/>
          <a:stretch/>
        </p:blipFill>
        <p:spPr>
          <a:xfrm>
            <a:off x="7010280" y="1371600"/>
            <a:ext cx="1352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D127-F34D-4191-B269-D6C1B5B9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Pric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amount a customer pays for a produ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that customers buy from you and not from your competi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so your revenues will exceed you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8DE-F5C2-4F80-952A-FD340AC4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is all of the processes used to determine and satisfy the needs of customers and the company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important?  It’s all the process needed to reach the TARGE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C:\Program Files (x86)\Microsoft Office\MEDIA\CAGCAT10\j0293844.wmf"/>
          <p:cNvPicPr/>
          <p:nvPr/>
        </p:nvPicPr>
        <p:blipFill>
          <a:blip r:embed="rId1"/>
          <a:stretch/>
        </p:blipFill>
        <p:spPr>
          <a:xfrm>
            <a:off x="7543800" y="4648320"/>
            <a:ext cx="130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D34E-3FB8-42F8-A2AC-00A07008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s for a pricing program should be established prior to selecting a pricing strateg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s might 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ag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5DB-4B60-4C7B-8816-976EC267A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s of making and marketing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urn on Inves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O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earned as a result of th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expressed as a percen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moothi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 $5000, want a 15% ROI (5000x.15=7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price your product to earn $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791E-8426-4BE6-874F-BF0AD2F86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 Shar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’s percentage of the total sales generated by all companies in the same mar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total market for a product in order for market share to be determin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unt of Sa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ket Size = Market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192,500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÷   $1,750,000   =   11%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D38B-2333-4021-83BD-F8B22819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arket share will depend on the level of competition in your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reate a market for an entirely new product, your market share will be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ays to increase market share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ing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and promotion – attract mor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with potential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: establish informal ties w/ people who can help the business grow – attend trade shows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C33-59B5-4113-AD02-3F7F41972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determine pricing objectives before pricing goods and ser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cide if you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ag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 im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ice must help you meet the determine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A517-9877-4284-B4B6-F781AFB4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a Price for a Produ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pricing objectives have been determin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 your Pric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more than one price that can be charged for a pro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 may be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D0B6-33F4-49BD-AD42-2E30BCCD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mand-Based Pricing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hat is determined by how much customers are willing to pay for a product or serv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customers to determine what they would be willing to pay for a produc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st price identified is the maximum price that can be 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439-C091-432E-BB5A-A811668C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848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-Based Pricing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using the wholesale cost of an item as the basis for the price charg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up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down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76A7-3FDE-4650-9AC9-8E4A78D9A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up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d by adding a % amount to the wholesale cost of an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up Amt = Wholesale cos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centage mark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ail Price = Wholesale cos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Markup am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down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d by subtracting a percentage amount from the retail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down Amt = Retail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age mar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down Price = Retail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down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3F0-8A55-4F2C-A04C-8F5A9753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etition-Based Pri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hat is determined by considering what competitors charge for the same produ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your competitor ch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the same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slightly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slightly 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644-E20F-49A1-B4A7-E84048B3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Concept: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eds of custo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mary foc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a product or service during the stages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050-419E-4032-A682-553B80F7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methods for determining the price to charge for a produc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9964-B5A1-48AD-A453-48EF7385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 price for a service, you mu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items used in providing the serv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required to produce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CC4-A314-4DCA-9B22-C4E4DEB1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time it takes to complete a service will be the basis for determining the price of the ser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s must decide whether the cost of materials wi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d as a separat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CC8-7DA3-41CD-947B-FB66B37A7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-Based Pric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s $100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s a job in an 1 ½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 x 1.5 = $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 dre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a hair highlight included the hair stylist’s time and the price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F798-B05F-47B9-AEEB-637B49076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services are combined under on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EC3-7F05-469A-BEC3-1655FC875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icing method would be the best for a housepainter to use to price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probably u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-b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</a:t>
            </a:r>
            <a:br>
              <a:rPr sz="2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ight charge separately for paint &amp; material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-based pricing may als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6A16-6EFF-48AE-8B10-7238EB32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can make or break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echniques may chang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676520" y="3809880"/>
            <a:ext cx="6248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49A-F55B-456F-835C-7CF4CDCD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~ Introductor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oduct introduction, sale will be low, marketing costs high and earn little, if any, prof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 Ski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products that are new and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ice charged to cover product developm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with similar product will lower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etration Pri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intro price charged to build a strong custom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ce also discourag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53F4-9DB7-4950-9509-F52235CE9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ychological Pric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rices have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how customers perceive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 commonly in ret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used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tige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 price to create a feeling of superiority (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d/Even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ending in odd numbers are perceived to be barg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A87-0FF3-41BF-B04D-6B17FE4F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different prices for a specific category of products based on specific features and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motion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offering lower prices to increase sales (limited-time s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-Unit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ing items in multiples (10 for $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buy more if they perceive a bar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5A8-BD47-400E-9C54-1E2158BCC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successful marketing concept will: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hat will satisfy the customers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d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market products or services that customers consider better than othe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profit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58BF-C8AF-4DDF-97D1-425813E72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unt Pric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customers a reduce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purch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used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early payment of invo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10, net 30 ~ 2% discount if paid within 10 days, full due in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 Dis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olume discou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lower prices based on the purchase of a large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manufacturer offers a discount to wholesaler or buyer in the same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asonal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ll seasonal merchandise out of s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17EC-3552-43BB-AB8C-0476BCF2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two techniques used in psychological pricing and provide an example of each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Prestige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Odd/Even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Price 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Promotional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Multiple-Unit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7AB-F842-4775-887C-E04C4085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two techniques used in discount pricing and provide an example of e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Dis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1F2F-207E-40AC-A39F-E68F3A22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eet customer needs and enables the business to earn a prof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ing target market through a blend 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F95-EA1E-443E-A465-5BD436E2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 that identifies how business goals will be achieved by outli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introduction or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or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1B7E-C8A4-4B74-BE58-6DABC2EF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Goals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th overall goals for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chievable with your availabl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short, medium and long-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to follow SMART guidelines (CH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-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At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-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- 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82E-767E-4E40-A498-B1CA9CD9E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the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tated in terms of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prof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etermine how to target your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2-03-09T14:16:43Z</dcterms:modified>
  <cp:revision>884</cp:revision>
  <dc:subject/>
  <dc:title>Chapter 4</dc:title>
</cp:coreProperties>
</file>